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B56-AA48-4889-B5C2-00DD16BD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59A2-A00A-4FDC-BB4F-32DC60D2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FB8-F719-4A7C-97DD-49D3C281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AA6-DC56-4D87-8A87-668FF392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91F9-422D-43D8-B0F2-BD1CFFD2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5D9-FF57-4411-9EA3-A7ED45E9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9A72-D658-40A5-8B70-7B13E31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7784-54F9-4459-A193-A67E5307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DB47-144A-4F24-8850-7BF7BEDE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5922-C90C-4F0B-A7DD-77FE4E06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98DB-22B2-445B-A693-2C1DA81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F0D-6297-475F-8E88-54E426B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C06A-393E-42D0-9F6A-A8983D45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1505-9A5A-4C5E-AB9A-D16F8B9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2FAE-C394-4C6F-A7DE-E58C5738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B478-8F3B-4D1E-9227-AF9EB020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B5FB-C08F-4687-94E0-B3F83916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149-F149-4EB5-A62A-C9144B2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374-369A-4DBF-9755-288CF635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E3F9-0080-409D-B0EB-012406B5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225-F1D1-42A6-874D-C3E6DC17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A7C-7F53-4F6A-AEBE-FBFC202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2FE-A83F-46F6-98D4-E2E133D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F99-DD2F-4B60-8483-80655B1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4CFC-4BC8-4616-98E3-95DB52D213E1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675D-62E4-4EE6-9D24-F5FA76ABFB39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2911320"/>
            <a:ext cx="77724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Fascicolo dello studen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 Flavio Ferl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ssa Cristina Mug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1e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43800" cy="90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533412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384-6981-44C2-84BF-D593E2888C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Modello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l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e espor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ervizi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 grado di trattare  i principali eventi relativi al ciclo di vita del fascicolo dello studente: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pertura, chiusura, inserimento e consul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i di gestione delle carriere studenti, i servizi web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ed eventuali altri sistemi gestional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ono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ssere in grado di integra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ll’interno delle loro funzion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 servizi offerti dal 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7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B33F-EFEB-4CEB-96CE-094508A14B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778040"/>
            <a:ext cx="7010280" cy="431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01840" y="45720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1828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Modello di rife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896-0F62-4D79-81CA-39AD542C15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81e2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dell’art. 2, comma 1, lettera d) dell’avviso Università Digit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ntrodurre il fascicolo personale dello studente, nonché ulteriori servizi finalizzati a reingegnerizzare ed automatizzare i processi interni ad elevato costo di risorse umane e stru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progetti ammessi al finanziamento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1" lang="it-IT" sz="1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alizzare l’integrazione tra i sistemi di gestione documentale ed i sistemi gestionali in uso presso gli atenei, a partire da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fin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ingegnerizzare ed automatizzare tutti i processi interni agli atenei relativi al ciclo di vita dello studente per una completa dematerializzazione del fascic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piè di pagina 4"/>
          <p:cNvSpPr/>
          <p:nvPr/>
        </p:nvSpPr>
        <p:spPr>
          <a:xfrm>
            <a:off x="3124080" y="6324480"/>
            <a:ext cx="289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0680" y="304920"/>
            <a:ext cx="6362640" cy="90936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8954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4956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535-3209-4412-B857-A989256902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6699"/>
                </a:solidFill>
                <a:uFillTx/>
                <a:latin typeface="Arial"/>
              </a:rPr>
              <a:t>Benefici at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Semplificare l’apertura del fascicolo student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nel sistema di gestione documentale, rendendo automatica l’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idurre il carico di lavoro del personale amministrativ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consentendo l’inserimento automatico nel fascicolo dei documenti più rilev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Possibilità di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endere disponibil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online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 allo studente il proprio fascicol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ai fini della trasparenza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98" name="Segnaposto piè di pagina 4"/>
          <p:cNvSpPr/>
          <p:nvPr/>
        </p:nvSpPr>
        <p:spPr>
          <a:xfrm>
            <a:off x="0" y="6280200"/>
            <a:ext cx="28954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90B-F627-410B-B617-4353063326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Approccio adottato per giungere alla formulazione delle linee g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divisione e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monizzazione del lingu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icerca dei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ferimenti norm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levazione dei modelli organizzativi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gli Aten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finizion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di u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dello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2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A4B-7031-4F6A-97D9-56BDCB70B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Terminologia e principali riferimenti normativi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Documento informatico – artt. 1 e 20 del C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Procedimento e fascicolo informatico – art. 41, c. 2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Sistema di gestione dei flussi documentali – art. 64 DPR 445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Gestione informatica dei documenti – art. 1, c. 1 , lettera u)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Non esistono al momento norme o linee guida che definiscano il contenuto del fascicolo studente e le regole di conservazione dei documenti in esso contenuti (scarto). La materia è oggetto di studio da parte di progetti nazionali ed internazionali (es. Cartes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495680"/>
            <a:ext cx="0" cy="13716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92E-1289-46F0-BE8B-62574248B4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Rilevazione dei modelli organizzativi negli atenei ed uso del fasci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modelli organizzativi adottati dagli atenei per la gestione dei processi che riguardano la vita dello studente sono profondamente diversi tra loro – Elemento di norma comune: la segreteria studenti, una per ciascuna facol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Non esiste una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</a:rPr>
              <a:t>polic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uniforme e condivisa per la formazione del fascico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È sempre più diffusa la tendenza a sostituire le istanze cartacee con servizi web autentic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l sistema di archiviazione documentale di norma non è integrato con i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Esiste quasi sempre un insieme di documenti/atti (es. decreti, delibere), spesso di natura collettiva, che sono ancora in form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C9D-9E75-420E-B9AE-9CF4DD212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pr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progetti devono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mirare all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emplificazione del processo di apertura e chiusura del fascicolo student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nei sistemi di gestione documentale in uso mediante la realizzazione di opportuni servizi automatizzati che supportino l’interoperabilità tra il sistema di gestione delle carriere studenti e quello documen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nalogamente,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nche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inserimento di documenti nel fascicolo deve essere semplific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’inserimento nel fascicolo informatic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ello student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elle istanze presentate tramite servizi </a:t>
            </a:r>
            <a:r>
              <a:rPr b="1" i="1" lang="it-IT" sz="16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utentica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e de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deve esser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limitat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 quelli di legge ed a quelli che si riferiscono ad eventi che hanno effetto sulla carriera dello stu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5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5B6A-BD1C-453C-8D18-61B882EFDE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second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Tutti 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ovranno esser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generati in formati standard aper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PDF/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istanze presentate tramite un servizio web autentic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a parte di soggetti (studenti) la cui identità sia stata accertat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all’atto dell’immatricolazione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no equivalenti alle istanz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e alle dichiarazion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ttoscritte con firma autografa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65, c. 1, lettera c, del CA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Quind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credenziali non possono essere quelle di un soggetto autoregistr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. In questi cas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non è necessario richiedere anche la presentazione dell’istanz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Una istanza singolarmente identificabil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mediante un numero univoco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può essere esclusa dalla registrazione di protocoll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53, c. 5, del DPR 445/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9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5867-D845-481A-B863-E190DE3689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(ult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i fini della trasparenza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è auspicabile che lo studente possa consultare il contenuto del proprio fascicolo informatico tramite un servizi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Nella fase transitoria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, in cui vi sono ancora processi manuali, sarà cura del personale dell’U.O. che ha in carico il procedimento inserire nel fascicolo informatico dello studente, se necessario, i relativi documenti cartacei, avvalendosi dei servizi offerti dal proprio sistema documentale (es. caricamento documento acquisito tramite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3C3-E088-402B-87E7-4BA346E8DC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gnai </cp:lastModifiedBy>
  <dcterms:modified xsi:type="dcterms:W3CDTF">2010-11-11T22:17:21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